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B27-2F14-4208-84AA-CD091A7E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79F-0545-4F99-80D3-D7EB10DE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D56-B606-443E-8BA1-B1C53FCE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122-5E2E-4BE5-B8FD-65791C6B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30B9-CC53-4717-ADA6-A92F5532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6E22-E686-4378-BF53-14929CB8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1973-BC6B-4185-B5C7-3083F40A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142D-FF92-4039-BD3D-9C0F86EF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BD37-910B-4B7B-821F-957E7266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7D1D-916F-4805-A739-3B8F81F8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C975-8DC2-4219-B96E-5AC7E96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0D5-7124-4E23-8C42-FA8DB87F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AF4A-E3DD-48C5-B427-B40F174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D785-2184-4CC0-9033-CD25A718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AC17-33DE-46E7-B8E3-4286D8E1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66F4-60CD-47B5-98E9-017EB40F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5D7D-D9BE-48A0-A176-950EF708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0D1-BD9D-4C36-919C-3FFA619F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D59-BEF0-4299-9D34-7E45B51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763-81C9-4E9B-8A33-13FB9A3A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EBF-9A81-4D30-A586-254DC6A8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3C2-F5B0-4679-92DD-182A98BA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A48-4C44-4140-8D79-3570FB1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436-51CA-4BD5-B871-79420602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84D0-2F17-4243-80FC-AA82594CE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0CE3-FC6D-4181-BF73-E8E75C03B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Ecological Succession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eec94"/>
                </a:solidFill>
                <a:uFillTx/>
                <a:latin typeface="Times New Roman"/>
              </a:rPr>
              <a:t>Succession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the natural change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and species replacements which take place in a community of an ecosyste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rimary succes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kes place over land where there ar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living organisms.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Very SLOW process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lava from a volcano destroys everything in its path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rimary succession begin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.  </a:t>
            </a:r>
            <a:r>
              <a:rPr b="0" lang="en-US" sz="6000" spc="-1" strike="noStrike" u="sng">
                <a:solidFill>
                  <a:srgbClr val="feec94"/>
                </a:solidFill>
                <a:uFillTx/>
                <a:latin typeface="Times New Roman"/>
              </a:rPr>
              <a:t>Pioneer speci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first specie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to occupy an area undergoing primary succes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b. </a:t>
            </a:r>
            <a:r>
              <a:rPr b="0" lang="en-US" sz="5400" spc="-1" strike="noStrike" u="sng">
                <a:solidFill>
                  <a:srgbClr val="feec94"/>
                </a:solidFill>
                <a:uFillTx/>
                <a:latin typeface="Times New Roman"/>
              </a:rPr>
              <a:t>Climax community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table, mature community that undergo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ittle or no chang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n species.  It can last for hundreds of year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2. 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Secondary succession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nges which take plac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FT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 existing community is severely disrupted in some w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ccurs in an area t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reviously contained lif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 land t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till contains so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48:23Z</dcterms:created>
  <dc:creator>Clear Creek ISD</dc:creator>
  <dc:description/>
  <dc:language>en-US</dc:language>
  <cp:lastModifiedBy>Clear Creek ISD</cp:lastModifiedBy>
  <dcterms:modified xsi:type="dcterms:W3CDTF">2008-10-16T12:54:12Z</dcterms:modified>
  <cp:revision>1</cp:revision>
  <dc:subject/>
  <dc:title>Ecological Succession</dc:title>
</cp:coreProperties>
</file>